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BA2-2DF8-4D22-81E4-27138E0D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2A0-4D04-492F-BA97-6EB2BB8C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DBD-6D60-400B-86EA-5B66AB94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033-2AE7-4C2C-9DD1-32A3C0AA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364-C602-453B-882E-690D26D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6DC-0FCC-4D5B-8E94-5166041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5C4-2B3D-486E-9A3C-271BD6A7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108-C2AE-42E6-9072-7D08F22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5E8-A4A8-40B5-81CD-7D03566F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BD2-EE45-4B9A-BCF9-C53B1C7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DA0-6BF6-4D01-AFD7-0908EF78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FD6-1284-4098-9842-2114908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2DDE-9EF7-44A8-BD30-7FE548320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fine subclasses derived from parent class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owerful form of re-use: new classes are variation of existing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erived class inheri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s if they were its ow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re not directly accessible by derived class (access func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must be used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se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arent class is superclass of sub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class members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ope of member is limited to own class or friend functions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has global scop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tected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can be accessed by own class + maybe by derived class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d with the keyword virtual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verridden in one or more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ce virtual, always virtual: even if the derived class does not also the overridd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unction virtual, it still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with virtual function(s) is polymorphic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en virtual function is called via base class poin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++ determines the type of object pointed to by the pointer, and uses this to select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which function t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done at run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ifferent objects are pointed to, different versions of virtual functions a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invoked: Polymorphic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type of the object being pointed to, not the type of the pointer, determines which version is invo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 and Abstrac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metimes, virtual functions in base class has no meaningful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animals have different favourite food, so virtual favoriteFood() will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 wants to be overridden in all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enforce this, use pure virtual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, but do not define virtual function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ead, write virtual void favoriteFood(void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, every derived class must supply their own definition of favoriteFood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fails to do so, a compiler error is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contains only one pure virtual function, it is virtual as well. No instances of this class can be created. The class becomes 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… abstract class can be still used to create pointers (see anima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tract classes are sometimes desir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type conversion can be achieved by means of a special operato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in C: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xample in C++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x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x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n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float n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(float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 / 3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ic_cast&lt;float&g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(x) / 3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ic casts are used for many purposes: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convert a signed type into the correct unsigned type or vice versa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igned char x = 0xFF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i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 = static_cast&lt;unsigned char&gt; 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value of I will be 255, while it would be –1 if we had omitted the 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22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division operation that, although applied to integers, is to yield a re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quotient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t i = 14, j = 3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loat x, y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x = i / j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y = static_cast&lt;float&gt;(i) / static_cast&lt;float&gt;(j)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result will be x = 4.0 and y = 4.666;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tation of static_cast: Const pointers cannot be assigned to non-const point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s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onst_ca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is purpose; 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cast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Remark: constcast1 gives details about one of the few situations, where const_ca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is useful. It is not recommended to use it otherwi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228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are also situations, where a bit pattern in memory must be interpreted a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value of a data type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[] = {‘a’, ‘b’, ‘c’, ‘d’}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*zf = reinterpreter_cast&lt;float *&gt;(ch)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cout &lt;&lt; *zf &lt;&lt; endl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 Protocol analys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92120" y="609480"/>
            <a:ext cx="808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lly … Some Useful Guidelines for Good Class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te file h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ion against multiple incl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 operations for al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ublic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method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argument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st possible scope of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ise variables when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names for variables and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mogeneous sty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yle guid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multiple source- and header files if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L rather than reinventing the wh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member of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modifi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ent cla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ark: Public visibility modifier is the most common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, Protected and Public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/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alis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is special case or sub-type of parent (most common form if inheritance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1”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fic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has implementation of behaviour that is defined but not implemen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 parent (this is the basis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ee later)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extens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adds new behaviour only; does not overwrite existing methods/variab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2”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mbin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combines features of more than one parent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I /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N’T use 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nstruc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inherits much of functionality from parent, but there is no logical relationshi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between them; example: Pinball game – ball &amp; whol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limit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 of child class  is smaller or more restrictive than that of paren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Overriding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inherits all member functions from super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a derived class can redefine functions that were already defined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objects of the derived class, these override the original defin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can access the overridden function of the superclass by using the scope resolution operator ::, e.g. &lt;VarName&gt;.&lt;SuperclassName&gt;::&lt;function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See project “inheritance3”)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a constructor of the base class is called befo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the constructor of the derived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is don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: vehicle() {…}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explicit call, optional arguments can be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{…}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implicit call of default constructor of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2280" y="1143000"/>
            <a:ext cx="815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the attributes of the base class are created and initialised fir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 that destructors are called in the reverse order to constructo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: There is no need to call a destructor explicitl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440" y="3352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2120" y="3809880"/>
            <a:ext cx="815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lass can be derived directly by two or mor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syntax as for single inheritance e.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lass MobilePhone : public Telephone, public Wireless 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ful in some circumstances, but increases complexity of des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lymorphism: one interface, multiple implement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rocess whereby different implementations of a function can be accessed using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ame na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ifferent classes may respond to the same operation request in different way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nique to their respective behaviou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Since the same interface may be used irrespective of the actual class, the progra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mplexity is kept dow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wo main types: compile-time and run-time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ile-Time Polymorphis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overloading operators and functions, overriding functions in deriv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ompiler ascertains during compile time, which member function needs to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ecu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ically used with inher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ility to call functions of an object without specifying the object’s exact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s dynamic binding of function invocations to specific class methods at run-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imal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example shows, how a set of different objects with the same superclass can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mana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un-Time or “Pure”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0:39:33Z</dcterms:created>
  <dc:creator>Paul Boyle</dc:creator>
  <dc:description/>
  <dc:language>en-US</dc:language>
  <cp:lastModifiedBy>Paul Boyle</cp:lastModifiedBy>
  <dcterms:modified xsi:type="dcterms:W3CDTF">2004-01-22T01:20:47Z</dcterms:modified>
  <cp:revision>1</cp:revision>
  <dc:subject/>
  <dc:title>PowerPoint Presentation</dc:title>
</cp:coreProperties>
</file>